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338-0FBC-45FD-8620-DFE9B401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1F8-AC01-4239-A9AF-928F4C76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2C8-2FEB-4DAC-A861-96F5EF81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FAA-624E-4581-A0CC-F3877643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22A-45F2-42DC-A1FF-C618D613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727-2109-45C5-B6D1-431B2008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18C-F6BF-4047-83FB-55AE842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DB1-A9E9-4CCC-9AF0-D7F9AAA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5B4-391F-4F9C-9CBE-579FB57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799-405C-4BF1-B8C6-548E222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30D-4C67-4071-B77D-898C73B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F61-129A-4C06-9DA1-542A303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2488-45F8-4D62-8463-B76C70033A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2-14T08:19:06Z</dcterms:modified>
  <cp:revision>813</cp:revision>
  <dc:subject/>
  <dc:title>Free PPT Backgrounds</dc:title>
</cp:coreProperties>
</file>